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chimes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bomb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8FD0-D21D-48CC-9F8F-46A08671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F8CC-BB01-42EF-AB35-5BEBBBD7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44BA-95B2-441D-A513-8FF94E09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D92C-32C6-47EA-B6B7-FB30B7D1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3FA0-1613-4524-8029-09BBD2D2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A57B-FDBB-49BC-9718-862C2185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928D-054A-4D3D-9C81-A56CBB9C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D64A-82A5-410A-B38C-B525FF02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7D6F-241B-45CE-96E6-1B0571DA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95CE-FB47-405C-948A-FFCB4B3A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8E34-EABA-4E8C-826D-4949A8BE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E749-B493-42A2-95B1-9C324736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7D4A-532E-4635-A22F-CEACF6F2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361F-7F48-495A-B871-EBBBCF05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9819-54E1-4EE6-BDFE-309E2ECA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5DC2-0563-459C-BFF0-7E568197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8F51-754F-4A09-9D0E-2BB05EA5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60A2-B513-46D6-B94D-A78762A6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DDEE0-2348-49B0-AB7F-32102351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8ABF-E466-464B-9D00-9BC56F2E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A2F3-83C4-4289-A193-1CD11A00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85EED-5AC1-4A6F-92E3-14F8C042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9E026-8AD9-411E-AE54-2E006E5B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B9A9-75FB-43DB-A36B-87B181A4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6155-2A6A-474A-9E8C-1BB08EDB7E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ADA8-4951-4913-83A9-FDB53DAEF99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608E-E91F-43ED-A1D3-D9CE0BD7D69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2C07-E586-4E1D-B51E-4266E1C8A9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BB63-2688-4D37-AA13-3B817DBD2A9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ВИКТОРИ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ЖЁНОГО БОГ БЕРЕЖЁ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пожарная безопас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От чего люди гибнут на пожар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От дыма, огня, ядовитых газов, потери созн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4740"/>
                </a:solidFill>
                <a:latin typeface="Tahoma"/>
              </a:rPr>
              <a:t>ЗАГАД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Шипит и злится, воды боится. С языком, а не лает, без зубов, а куса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ahoma"/>
              </a:rPr>
              <a:t>(Ого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Накормишь - живет. Напоишь - умр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ahoma"/>
              </a:rPr>
              <a:t>(Пожар, ого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4740"/>
                </a:solidFill>
                <a:latin typeface="Tahoma"/>
              </a:rPr>
              <a:t>ЗАГАД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В деревянном домике проживают гномики, уж такие добряки раздают всем огонь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ahoma"/>
              </a:rPr>
              <a:t>(Спич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Голова огнем пылает. Тело тает и сгорает. Я полезной быть хочу. Лампы нет я посвеч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ahoma"/>
              </a:rPr>
              <a:t>(Свеча)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вас загорелся телевизор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бесточу, накрою влажным одеялом. Нельзя поливать вод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ковороде горит масло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тключу плиту. Закрою крышкой или влажным полотенце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ставить сковороду под в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вас горит одежда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Упаду, буду кататься по пол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акрою себя одея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убег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 видите человека в горящей одежде. Что нужно делать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Повалю на пол, накрою курткой, одея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тушить из огнетуши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e500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Отгадай ключевое слово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Если по горизонтали впишете правильные ответы, то в выделенном вертикальном столбце прочтёте ключевое сло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Вопросы по горизон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Из-за неосторожного обращения с ним может возникнуть пож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Опасный бытовой приб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Травма, которую может получить человек при небрежном обращении с огнё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Длинное вспомогательное средство с поперечными перекладинами, используемое спасателями для эвакуации людей из высотных зда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Первичное средство пожаротуш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376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push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твет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23880" y="2224080"/>
          <a:ext cx="6905880" cy="363384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1640"/>
                <a:gridCol w="430200"/>
                <a:gridCol w="432000"/>
                <a:gridCol w="431640"/>
                <a:gridCol w="431640"/>
                <a:gridCol w="432000"/>
                <a:gridCol w="431640"/>
                <a:gridCol w="432000"/>
                <a:gridCol w="431640"/>
                <a:gridCol w="430200"/>
                <a:gridCol w="432000"/>
                <a:gridCol w="431640"/>
                <a:gridCol w="432000"/>
              </a:tblGrid>
              <a:tr h="727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к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ё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р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ю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257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ж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6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ц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а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7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ш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ь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  <p:sndAc>
      <p:stSnd>
        <p:snd r:embed="rId1" name="pu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206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то такое эвакуац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Это экстренный выход из опасной зоны при Ч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e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Tahoma"/>
              </a:rPr>
              <a:t>Обеспечьте пожарную безопасность квартир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айдите в течение 2-х минут нарушения ПБ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428840" y="2143080"/>
            <a:ext cx="6572160" cy="4278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push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206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то содержится в пожарном ящ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топор, лопата, огнетушитель, багор, и ящик с пес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u"/>
    <p:sndAc>
      <p:stSnd>
        <p:snd r:embed="rId1" name="chimes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В каком виде необходимо содержать электроприборы и электрическое оборуд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следует убирать их в шкаф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следует хранить в короб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ледует содержать в исправном ви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содержать в рабочем состоянии выключатели, вилки, розетки, электроснаб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В каком виде необходимо содержать электроприборы и электрическое оборуд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ледует содержать в исправном ви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содержать в рабочем состоянии выключатели, вилки, розетки, электроснаб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рекомендуется преодолевать горящее помещение при выходе из н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А) бег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ползк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накрывшись с головой мокрым одеялом, плотной тканью или верхней одежд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дышать через увлажнённую тка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Как рекомендуется преодолевать горящее помещение при выходе из н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накрывшись с головой мокрым одеялом, плотной тканью или верхней одежд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нужно продвигаться через сильно задымлённое помещ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 полный рост и бег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в полный рост медлен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качк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ползком или пригнувшись, придерживаясь за ст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нужно продвигаться через сильно задымлённое помещ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ползком или пригнувшись, придерживаясь за ст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Что необходимо предпринять человеку, чтобы не потерять ориентировку в сильно задымлённом помещ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держать равновес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придерживаться палкой потол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придерживаться сте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опираться на пол ру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Что необходимо предпринять человеку, чтобы не потерять ориентировку в сильно задымлённом помещ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придерживаться сте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F15B-11BE-462D-85D1-EABA5A4E796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дьте всегда бдительн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блюдайте треб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НОЙ БЕЗОПАСНОСТ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030a0"/>
                </a:solidFill>
                <a:latin typeface="Tahoma"/>
              </a:rPr>
              <a:t>Нарушения пожарной безопасности в квартире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Лампа накрыта ткан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Розетка на стене перегруж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Утюг включё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Электрокабель под коври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Занавеска находится слишком близко от пли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Полка висит над пли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Полотенце висит над пли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Почему номер пожарной службы «01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Легко запомнить, короткий номер, логично набрать даже в темноте</a:t>
            </a:r>
            <a:r>
              <a:rPr b="1" lang="en-US" sz="3200" spc="-1" strike="noStrike">
                <a:solidFill>
                  <a:srgbClr val="ebf25a"/>
                </a:solidFill>
                <a:latin typeface="Script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Что нужно сделать, когда уходишь из квартиры, чтобы не допустить пожар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Выключить  свет, отключить электроприб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Можно ли бить оконные стекла в очаге возгоран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Нельзя, так как поступающий воздух усиливает го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Что нужно делать, если огонь отрезал путь к выходу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Уйти в дальнюю комнату, плотно закрыть дверь, через окно или балконную дверь кричать о помощи. Прохожие вызовут «01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азовите три любые причины пожа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ahoma"/>
              </a:rPr>
              <a:t>Непотушенная сигарета, игра со спичками, неотключённая электроплита</a:t>
            </a:r>
            <a:r>
              <a:rPr b="1" lang="ru-RU" sz="32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азовите три любые причины пожа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ahoma"/>
              </a:rPr>
              <a:t>Непотушенная сигарета, игра со спичками, неотключенная электроплита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2:03:02Z</dcterms:created>
  <dc:creator/>
  <dc:description/>
  <dc:language>en-US</dc:language>
  <cp:lastModifiedBy>Comp</cp:lastModifiedBy>
  <dcterms:modified xsi:type="dcterms:W3CDTF">2014-09-02T16:41:10Z</dcterms:modified>
  <cp:revision>46</cp:revision>
  <dc:subject/>
  <dc:title>ВИКТОРИНА</dc:title>
</cp:coreProperties>
</file>